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A64-0582-4380-9335-1EA0CDED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DFA-3223-4912-BAE0-4523FEF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5CC23-7EDC-48FD-A81C-2F37CD04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AD977-699B-4FDB-A910-FA0BE54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403B8-4A1F-465E-A659-BA56011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5789B-0E71-4AEF-89FD-AE1D0D8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34E48-B7E0-46E6-9C81-08453FF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6909E-E4B5-47D6-A763-B61830A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FA5C-533D-4597-852C-4CCE56B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AD26-8DC3-4DAC-88D2-77978A66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5A12C-95E3-4EDC-BF04-9374E67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A9D9B-E548-42A6-8088-46AE7D4E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8E1-BAD6-4037-83B4-12B41FF6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27844-4F75-4DC5-8591-038C8C8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3ADFD-51E9-4F2B-8EF9-5CCF104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DB715-B62C-4891-BB0F-C1A69547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F80F3-54B6-4980-A396-F10E57B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02586-BD68-4936-940C-AB696B42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32439-A149-486D-A41D-4BC2C4F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61DEC-2E26-47FB-B7EB-76A3E53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C9274-2381-4BA8-B556-EF6658D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7D008-67A5-4CB2-9C06-9C031C0A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39D7B-1B5F-43A4-B7EF-B02BFFA5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306-5E52-4DF5-9DF4-BDE03121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94911-2D24-44AB-891C-6A235C77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B4B1-8FF0-4719-AC70-D6776EB6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50AC1-7CCD-42D8-915E-D512FA54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E78A5-9409-4768-86C5-30A01E8D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5F70-0A0C-4848-AA65-3AE1314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F25D5-9C43-4E57-82CD-6F47DB4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D34FF-5D0F-41CB-BD01-15020D13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6672C-EDD4-469A-B495-A4163D3B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CE09-6C4D-4117-B6CC-7E89295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95B0B-8C34-4A4B-8505-7A1F629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8B7F-329A-4DAD-884E-7F410C7D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8D723-301A-4C42-9608-5DD491F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B4E7-E339-4ED4-B1D4-85948339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78242-397E-4A74-920F-B4766378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6D1A-D41A-41EB-9551-9C5D3212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6475E-F49A-4D5E-8E9B-277EB88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90E3F-8BEE-420A-9D8D-7B79D7C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5D902-4B19-4964-9522-E58171A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49C8F-55B6-4C7D-9FE6-769919A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55CC9-51F3-4312-8D58-2DC759C2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ADDA2-5C9B-4D0C-B1A1-EF5CC10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4640-27E0-4118-A50D-909C1527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129D8-BBAE-448F-86CE-40AFF68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5D0DA-04AD-4DD6-AC65-228428B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1F287-8334-4563-AA5E-7CC1B625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B20D0-279F-46FC-99E7-926DC989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20D12-14EF-41C6-B705-8DC5E0D9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F153-21D3-439B-B47F-E0EAA0EE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3AA2-7147-40A1-A4B9-23F1356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5C12-D694-4381-9F57-051FDD98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6E51-2409-4FF4-8C71-F5DF5192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5B35-D6A1-4854-BB3E-6A373DC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729-C678-4B03-9BE8-667FC40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3FA4-D806-4F45-8A82-D817274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EF2-EFC9-4E3E-9E7E-83A0F44C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3170-BC05-41AA-8F9D-AEF3F41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3F96-A6A5-4C25-862A-3F7547A6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BE04-765E-418C-A929-BF169A94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936A-1173-4667-B5CF-8A4A0FA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70D8-EF54-4B20-8191-C7A80140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85C8-C7E0-49B5-B1DD-088BB644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FE1B-2329-4AE3-9141-28A9F92F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A3C5-0CC8-40DB-AFCA-D8A8798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E58-8B43-4FC6-94F1-66F099F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71C4-3F07-42DE-967D-7235BFF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B753-7267-4655-98CE-D78E8BE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0166-85BC-426A-A48F-D400970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3320-EA7E-4BE8-8AA8-7DF355C5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0034-52DA-4214-91A5-D914A9A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3EAF-7297-4B39-BA31-FFF30A68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8BE8-00AD-414B-9081-D8BA523F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E860-CEBA-49E6-B275-C78A606A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097D-7476-449A-B162-7CFABC6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5BE1-4256-47E2-8779-CC59084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334-20E2-4C53-8715-AEB576FA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1945-9063-4A70-BA50-45A8CA98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A79F-FC38-4853-9FE6-8FF29303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E8C1-F739-4DE5-975D-CAE74B9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17CC-2985-40AB-81AB-4812BF1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9FE9-1CEB-4494-A7D5-DFC0451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6C01-FB53-4610-BA90-3A43DC2A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BDEB-6F74-48E2-A947-C12F60D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6091-DF5D-4BCA-AA2E-CAD43954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DDF8-4682-47F1-B9F1-87E931FE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3E47-F7BF-48A7-A99C-C93D5747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3DD-C040-4822-A9A1-AE4BD23A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85D1-2300-4BCF-9C05-8681D092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78C0-35E2-4C70-A7C4-78E7D41C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EBDD-D6D8-4A7E-81A7-2B07DD36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A541-C867-4369-8E41-FC45B54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ED30-468C-4D02-8238-05A5859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9793F-D4F8-4985-AEB8-A2DE0B5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BEDB4-CDD4-4D68-86DA-6CCCB663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FBA5-EDD9-4E55-B7FC-DD085FC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7D10-F5FE-4915-8A3A-B3A691C4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8169-7CF7-436C-9D13-35DD9A84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D24-1096-4E09-932F-A62FBC9D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2A54-6629-4B90-9806-C7392838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0B1B-278F-4FA5-8F67-642B4287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B466-80F8-428C-B3CD-E1C49D79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2D22-C353-4F2D-B1DB-D7F35B6C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ED0D-291F-4B13-B4A1-1E22F5C3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CC31-442D-4DC2-B54F-666A276F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4F60-321A-4925-BCA9-BFCD30C0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2E9C-D312-4D63-925C-013E7BA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786CD-E2CB-42F1-9EB8-88DF4BC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896F-FB0D-4DCE-8321-F927184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A1D-7396-4553-A113-F319730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78BC0-3BB3-4E70-AD8D-8C8AD78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977C-1F08-4167-BA14-19A7CE37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A5EE5-F819-4E6A-BA8B-F79EE5BA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5C406-5EB3-4ED3-BBB0-CC278769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F2357-C514-4E9C-BEFB-844B820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638D-D8B2-45FF-8B73-6220E07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8662-5287-4CFD-B135-3689D68A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70EC-408B-4345-A07F-9162E4E2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846B1-065A-403E-9669-1CE9562C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7AAE-3285-48CA-B94D-322130A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637-3863-41CC-A9CA-2B0CDE1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4AEA-73AC-42EF-AEA1-B17B735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CDA6-7E43-4A51-B167-8B6C708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1B438-839B-4CA6-97DA-8040A97C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A141-DC5C-47F6-88BC-8F7DE0B0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6E68-995A-4804-B8B1-CBA417F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5F25A-C2C5-4614-9B3B-0D0BAE89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ABA4-513B-4621-AD04-BD2A04DC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1C14-8136-4AE2-B448-A53B0FF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6476F-6301-45BE-B635-CB735625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2F210-2202-42D0-8C85-3613B31D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DE6-E0BD-4AB3-A209-E9B2151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DD84D-A455-4BA7-B0F1-A2683B99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196A0-85DB-4B24-8867-8A6E133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9392-D208-43FA-B134-C2E3ECD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A64EC-2C11-40E8-9F48-8509350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A1506-77EF-45EF-81B6-3C12F5A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12E49-DA49-4282-A45C-0E3BBFF1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C1E21-AE59-4D62-BAC2-C235DD10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D8D55-4818-44F9-AC85-232ED359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28A6-8558-443B-8522-4A0959EC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1F9D1-4DDF-443D-B2FC-5EEDA467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ACD9-0FCC-4476-B404-F970F79A58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790F-08B2-4BD4-AB41-1963A844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46F5-5121-4B70-AC9B-BB129710B6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4C0-8054-4D5C-8994-B011436D0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1E3-57F0-460A-977D-FF1800E7B4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C1F4-95E1-4C75-ACF2-58C8FEDE3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CD2-17FE-4963-9F72-927FA63869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39C7-2B95-4E4B-990E-B6CEBF025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E24-0BDE-426F-B7F5-A0D2E2D01C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9639-4789-41D4-86E6-A93D4DE25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BB9-449D-4F04-8BD7-5926CD4AAB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B60-891E-4835-924A-766A40A8E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D4D-B930-4622-8D6D-533FBD1C94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946F-717F-45F3-B54F-F8699A2CA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468-5F7B-42CD-B151-556E5B748C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0957-E92E-4331-BD03-08BE55CE6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E3C-F9C6-4FDC-9A48-E26487C502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015-984F-4A84-A88C-824571225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603D-843E-4486-8F9B-0167DD1A0C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CBE-3334-43FF-A60D-549C7897D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5719-1ADC-42B5-989C-DA6226D4D1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C342-678E-4343-975F-11D7DB343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154-6D60-4728-8444-8803564238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18C8-4AFB-445C-ACBE-60F641F91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effect of the divergent boundary visible in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1"/>
          <a:srcRect l="14338" t="40049" r="17468" b="39930"/>
          <a:stretch/>
        </p:blipFill>
        <p:spPr>
          <a:xfrm>
            <a:off x="419040" y="380988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Rift Valle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type of plate boundary occurs when two plates move toward each o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plate boundary occurs when two plates move away from each o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Divergent boundary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is type of plate boundary occurs when two plates slide past each other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ubduction is a result of this type of plate boundary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dentify this type of plate boundary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rcRect l="0" t="0" r="0" b="13407"/>
          <a:stretch/>
        </p:blipFill>
        <p:spPr>
          <a:xfrm>
            <a:off x="2057400" y="2914560"/>
            <a:ext cx="6629400" cy="35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late collision is a result of this type of plate boundary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Volcanoes are an effect of this type of plate boundar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 midocean ridge is an effect of this type of plate boundary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Divergent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Earthquakes, shearing, and fault lines are the effects of this type of plate bounda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A mountain range is a result of this type of plate boundar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ivergen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rift valley is the result of this type of plate bounda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Divergen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ese are the two types of crust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Oceanic and continental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This type of crust is more dens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When two continental plates converge they cause this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A mountain range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91600" indent="-29160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When an oceanic plate subducts under a continental plate it creates this landform on the continent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Volcanoe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dentify this type of plate bounda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rcRect l="0" t="0" r="0" b="12535"/>
          <a:stretch/>
        </p:blipFill>
        <p:spPr>
          <a:xfrm>
            <a:off x="3575160" y="3365640"/>
            <a:ext cx="556884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island arc and oceanic trench is formed when this type of plate subducts under an oceanic pl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ceanic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he supercontinent that existed 250 million years ago is called thi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angea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what we call the pieces of the earth’s crust that make up earth’s surf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Tectonic Plate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Plates movement is caused by this in the mantl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This is what we call the places where two plates meet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late Boundarie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is the layer of the earth where convection occur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type of plate boundary shown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2666880" y="2935440"/>
            <a:ext cx="6477120" cy="392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two effects of the plate boundary visible in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1"/>
          <a:stretch/>
        </p:blipFill>
        <p:spPr>
          <a:xfrm>
            <a:off x="3448080" y="3429000"/>
            <a:ext cx="569592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Volcanoes and a trench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3:56:01Z</dcterms:created>
  <dc:creator>Eleanor M. Savko</dc:creator>
  <dc:description/>
  <dc:language>en-US</dc:language>
  <cp:lastModifiedBy>Caroline Roth</cp:lastModifiedBy>
  <dcterms:modified xsi:type="dcterms:W3CDTF">2010-12-07T12:46:23Z</dcterms:modified>
  <cp:revision>44</cp:revision>
  <dc:subject/>
  <dc:title>Blank Jeopardy</dc:title>
</cp:coreProperties>
</file>